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387-6CE6-4764-92D0-8CCA0991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970-A5F4-4505-A7F8-00914B9F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02A-BB38-4CDD-B732-807BA863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183-6830-464F-95C8-06550124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1540-FC63-4822-AA48-FFBE45EE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27D8-EA7E-4423-88A6-E467D38F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6314-E437-426C-B81F-A494AE56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090-BEE1-41B9-8063-98F57A4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1089-74CE-424C-91F9-AE93ED4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986D-A83C-4919-82AD-8373CC89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AD4-404F-4ACD-AB5D-07A19A3C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2C6-CAD5-48F5-ADC5-5E645D00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1A00-9728-4742-A4FF-AD543335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A9FC-6669-44E7-9843-2FC06507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EDC3-E632-498D-BC82-71F6034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130E-8FCE-4425-8945-B88EE774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975-C8F1-48EE-B56C-727F5543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CD8C-4CE2-444D-9F54-EFDCC6C5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A3AF-D46E-430C-B35D-26173E3E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F980-B85F-4A63-9589-93DEB69C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BC6B-62D5-4D89-8875-CD05F212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6B65-1641-4416-8B91-DF33C4EF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080-9DF4-4634-B387-2952F9E0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AF58-713E-4839-865F-1BF1128F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4B8E-94F5-4587-A290-DA5C5CC7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81C5-CD9B-418E-B92E-1EE5E3AA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4818-BA5D-4C05-8699-4AFA4F2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044C-6045-443C-8068-B28663DB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81F5-41D8-419E-8C2B-FA9B68A9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7F350-1569-4493-8DA7-20D09478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7CECD-5623-40B3-8DCC-A27D058B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86CEA-FF6F-4981-BED7-A2CA9DE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43CDC-05D4-49E5-9A94-EC390460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244-FF06-4416-AB97-3C5A523B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0633D-911A-4821-B324-0F175750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854D-76E3-4D98-B63D-CCD93BC2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EDEB1-3010-4CC2-ABFC-3C76898B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67B7-093A-4428-9F79-249D9E5B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881C6-E7D9-4CBA-8FF4-C0E5DA0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09598-45DD-4560-9B3A-BC5E660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BA105-0478-4759-9587-08AF275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3750-A221-4557-9824-D87DC375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B155-CED7-48B5-B719-30E7D089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309D9-B553-44F1-99A1-D2F5EFD8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32C-0EF5-41EF-BEC3-2DDC9A04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924CC-3565-4A9B-9012-51B9CC61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773C5-8D61-4B9F-B689-924D1B48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6FAC0-1F0F-449B-BF60-E11BC12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68DD-E24F-4511-B837-4B6AF7E2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CA8E6-FC5F-497E-8941-6039E53A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D33A6-152D-42AF-AF7A-2CE0D6D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0072-47B4-44B1-9388-B31D242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D443F-E042-454E-96B3-83C63E7B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B6C9-AAB3-4940-BE34-04A271FF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7C358-04FD-40D0-A0D9-31F0B292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AD5-574A-4839-B931-CE1CC0AA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1F0F5-8FFA-4048-8C39-A694661B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0B13B-42DD-482F-B788-19CC8274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CA56-0A50-4C30-89C0-E1D31B0E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B40A-1971-4F5C-AA3C-CDFACA81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002F-25D4-4EA4-89A5-7EB60A1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F6343-D4BA-4D37-BFB4-D03AD917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75771-68D3-4FF0-95E5-410AC9AD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AFF98-AAFF-4074-B025-BB35A25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44DA4-C91A-4CF2-B0AD-95B547BE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1F151-AED1-461A-BAB2-A15858D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A18-8F9B-4DBD-B580-C3999AA8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AB17E-42E2-4BEF-8F44-A4E677E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0EEB-E5F1-4AB2-9010-B1159277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86253-EFB9-4761-A2A8-5533E001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C271-872F-4B92-9587-2A9984D0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8482F-D386-4795-8D17-82A575E1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9EBB-470D-4C31-9FB5-335D9C20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8FDBF-22C3-41C5-B9B1-4C21B1FF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EA84B-9B76-4B79-9A2F-2080B1E1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610D0-8311-4A56-AC5F-5BC5881A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8D18-AFA9-419E-BFEC-CC8D02A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1592-76CB-4232-ABE0-9E485EA0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3636A-2595-450F-AB98-8CD94F7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F936-E979-4BF8-85DD-5D228603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87FA-F863-4B9A-BF90-465CDF0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97C28-DB67-46E7-933B-4A787E88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B8DE-96CB-45C4-9E7B-B6516E37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72C1-64CA-4B39-BFD9-C32485E7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BA7D-47E7-4F97-88A4-46042CE830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8184-FB92-4E37-91F2-3DA1324F7D7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6779-CDE6-48C8-B78A-AD9805A80D7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C56-420C-4AF4-8FB1-73738646889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5800-A9F1-4F20-BB1A-E167F485272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59FF-372C-40D9-B6F0-F4B13DC18F9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6A11-6174-44D9-B5A6-CEC1344C39A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thquak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rcalli Sca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Picture 6" descr="EarthQ_MercalliScale_sx5212b3"/>
          <p:cNvPicPr/>
          <p:nvPr/>
        </p:nvPicPr>
        <p:blipFill>
          <a:blip r:embed="rId2"/>
          <a:stretch/>
        </p:blipFill>
        <p:spPr>
          <a:xfrm>
            <a:off x="2209680" y="2057400"/>
            <a:ext cx="5272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cating the Epicent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eologists use seismic waves to locate an earthquake’s epicen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ientists measure the difference between arrival times of the P waves and S wav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ologists then draw at least 3 circles, the center of each circle is a particular seismograph’s lo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point where the three circles intersect is the location of the epicen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EarthQ_epicenter_sx5068a3"/>
          <p:cNvPicPr/>
          <p:nvPr/>
        </p:nvPicPr>
        <p:blipFill>
          <a:blip r:embed="rId2"/>
          <a:stretch/>
        </p:blipFill>
        <p:spPr>
          <a:xfrm>
            <a:off x="1447920" y="1371600"/>
            <a:ext cx="71182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onitoring Earthquak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ismic waves cause the seismograph’s drum to vibrate. But the suspended weight with the pen attached moves very little. Therefore, the pen stays in place and records the drum’s vibr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 seismograph’s heavy weight resists motion during a quake, but the rest of the instrument vibrates when seismic waves arriv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73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Seismogram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- the record of an earthquake’s seismic wav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59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eight of the lines is greater for more severe EQ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6" descr="EarthQ_Seismogram_sx5092b3"/>
          <p:cNvPicPr/>
          <p:nvPr/>
        </p:nvPicPr>
        <p:blipFill>
          <a:blip r:embed="rId2"/>
          <a:srcRect l="7143" t="0" r="0" b="0"/>
          <a:stretch/>
        </p:blipFill>
        <p:spPr>
          <a:xfrm>
            <a:off x="2590920" y="3581280"/>
            <a:ext cx="5829120" cy="253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EarthQ_Seismograph_sx5092b3"/>
          <p:cNvPicPr/>
          <p:nvPr/>
        </p:nvPicPr>
        <p:blipFill>
          <a:blip r:embed="rId3"/>
          <a:stretch/>
        </p:blipFill>
        <p:spPr>
          <a:xfrm>
            <a:off x="1828800" y="380880"/>
            <a:ext cx="2733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truments That Monitor Faul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6668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11920" indent="-44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In trying to predict earthquakes, geologists have developed instruments to measure changes in elevation, tilting of the land surface, and ground movements along faults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iltmeter- measures tilting or raising of the grou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reep Meter- uses wire stretched across a fault to measure horizontal movement of the grou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ser-Ranging Devices- uses a laser beam to detect horizontal fault move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50080" indent="-203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PS satellites- Earth-orbiting satellites that monitor changes in elevation and horizontal moveme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11920" indent="-44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511920" indent="-442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PS Satelli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48" name="Group 14"/>
          <p:cNvGrpSpPr/>
          <p:nvPr/>
        </p:nvGrpSpPr>
        <p:grpSpPr>
          <a:xfrm>
            <a:off x="1447920" y="1523880"/>
            <a:ext cx="6476760" cy="4647960"/>
            <a:chOff x="1447920" y="1523880"/>
            <a:chExt cx="6476760" cy="4647960"/>
          </a:xfrm>
        </p:grpSpPr>
        <p:sp>
          <p:nvSpPr>
            <p:cNvPr id="349" name="Rectangle 12"/>
            <p:cNvSpPr/>
            <p:nvPr/>
          </p:nvSpPr>
          <p:spPr>
            <a:xfrm>
              <a:off x="1447920" y="1548360"/>
              <a:ext cx="6476760" cy="45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Picture 13" descr="EarthQ_MotionD-GPS_sx5093a3"/>
            <p:cNvPicPr/>
            <p:nvPr/>
          </p:nvPicPr>
          <p:blipFill>
            <a:blip r:embed="rId2"/>
            <a:stretch/>
          </p:blipFill>
          <p:spPr>
            <a:xfrm>
              <a:off x="2318400" y="1523880"/>
              <a:ext cx="4735440" cy="464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Using Seismographic Dat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ismographs and fault-monitoring devices provide data to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p faul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changes along faul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dict Earthquak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3" name="Picture 5" descr="EarthQ_California_sx5528a3"/>
          <p:cNvPicPr/>
          <p:nvPr/>
        </p:nvPicPr>
        <p:blipFill>
          <a:blip r:embed="rId2"/>
          <a:stretch/>
        </p:blipFill>
        <p:spPr>
          <a:xfrm>
            <a:off x="2819520" y="3886200"/>
            <a:ext cx="51181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thquake Safe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91a7"/>
                </a:solidFill>
                <a:latin typeface="Gill Sans MT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eologists can determine earthquake risk by locating where faults are active and where past earthquakes have occur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 the US, the risk is highest along the Pacific Co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eastern U.S. has a low risk because they are far from plate boundaries, but has experienced some of most powerful quakes. Maybe because the continental plate below N. America is under st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How Earthquakes Cause Damage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18960" y="990360"/>
            <a:ext cx="771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49000" indent="-47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hak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can trigger landslides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valanches, damage or destroy struc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9000" indent="-47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Liquefaction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ccurs when an earthquake’s violent shaking suddenly turns loose, soft soil into liquid mu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9000" indent="-47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Aftershock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an earthquake that occurs after a larger earthquake in the same are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9000" indent="-47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sunam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water displaced by the earthquake can form a large wav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orces in Earth’s Crus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640" indent="-504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tres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A force that acts on rock to change its shape or volume, works over millions of yea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84640" indent="-504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ypes of Stres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97480" indent="-50364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Tens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pulls on crust, stretching ro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97480" indent="-50364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ompressio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Squeeze rock until folds or brea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897480" indent="-50364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hear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pushes a mass of rock in 2 opposite dir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teps to Earthquake Safet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294920" y="3809520"/>
            <a:ext cx="74977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reduce earthquake damage, new buildings must be made stronger and more flexible. Older buildings may be modified to withstand stronger quak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Title 1"/>
          <p:cNvSpPr/>
          <p:nvPr/>
        </p:nvSpPr>
        <p:spPr>
          <a:xfrm>
            <a:off x="1371600" y="281952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Designing Safer Building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ontent Placeholder 2"/>
          <p:cNvSpPr/>
          <p:nvPr/>
        </p:nvSpPr>
        <p:spPr>
          <a:xfrm>
            <a:off x="1447920" y="1371600"/>
            <a:ext cx="7497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ain danger is from falling objects and flying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rop, Cover, and 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5" descr="EarthQ_tension_sx5060a3"/>
          <p:cNvPicPr/>
          <p:nvPr/>
        </p:nvPicPr>
        <p:blipFill>
          <a:blip r:embed="rId2"/>
          <a:stretch/>
        </p:blipFill>
        <p:spPr>
          <a:xfrm>
            <a:off x="1143000" y="0"/>
            <a:ext cx="4419720" cy="21398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EarthQ_compression_sx5060a3"/>
          <p:cNvPicPr/>
          <p:nvPr/>
        </p:nvPicPr>
        <p:blipFill>
          <a:blip r:embed="rId3"/>
          <a:stretch/>
        </p:blipFill>
        <p:spPr>
          <a:xfrm>
            <a:off x="4495680" y="1676520"/>
            <a:ext cx="4419720" cy="26636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EarthQ_shearing_sx5060a3"/>
          <p:cNvPicPr/>
          <p:nvPr/>
        </p:nvPicPr>
        <p:blipFill>
          <a:blip r:embed="rId4"/>
          <a:stretch/>
        </p:blipFill>
        <p:spPr>
          <a:xfrm>
            <a:off x="228600" y="4191120"/>
            <a:ext cx="507852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arthquakes and Seismic Wa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59440" indent="-483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arthquake- the shaking and trembling that results from the movement of rock beneath Earth’s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used by the forces of plate move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59440" indent="-483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eps of Earthquak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Produce stress in crust, adding energ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tress increases along a fault until rock brea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Earthquake begi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142640" y="304920"/>
            <a:ext cx="749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Earthquakes begin in lithosphere within 100 km of Earth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Focu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area beneath Earth’s surface where rock is under str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picenter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the point on the surface directly above the foc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7" descr="EarthQ_NEWwaves-1"/>
          <p:cNvPicPr/>
          <p:nvPr/>
        </p:nvPicPr>
        <p:blipFill>
          <a:blip r:embed="rId2"/>
          <a:stretch/>
        </p:blipFill>
        <p:spPr>
          <a:xfrm>
            <a:off x="1981080" y="3365640"/>
            <a:ext cx="54104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Seismic Wa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ves carry energy as they travel outw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72760" indent="-4935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eismic waves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vibrations that travel through Earth carrying the energy released during an Earthquake through the interior and across the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72760" indent="-4935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-wav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(primary waves) seismic waves that compress and expand the groun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Seismic Wa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67000" indent="-488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-wave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(secondary waves) seismic waves that vibrate from side-to-side and up and down; they shake the ground back and fo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488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not move through liqu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7000" indent="-4885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urface Waves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ve more slowly than P-waves and S-waves, but can produce severe ground movem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asuring Earthquak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re are at least 20 different measures for rating earthquak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rcalli Scale- rate earthquakes according to the level of damage at a given pl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54760" indent="-4780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Magnitud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a number that geologists assign to an earthquak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54760" indent="-4780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Richter Scale-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 rating of an earthquake’s magnitude based on the size of the earthquake’s seismic wa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434960" y="457200"/>
            <a:ext cx="7499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Seismograph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- an instrument that records and measures seismic wa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91640" indent="-468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ment magnitude scale- a rating system that estimates the total energy released by an earthquak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91640" indent="-468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d to rate all sizes, near or f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91640" indent="-468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ologists study data from seismograph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41800" indent="-468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ch one-point increase in magnitude releases roughly 32 times more energ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low 3- barely not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low 5- small, little da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6- great da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 or above- r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91640" indent="-4680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9:50:57Z</dcterms:created>
  <dc:creator>Falcon School District 49</dc:creator>
  <dc:description/>
  <dc:language>en-US</dc:language>
  <cp:lastModifiedBy>test</cp:lastModifiedBy>
  <dcterms:modified xsi:type="dcterms:W3CDTF">1980-01-26T13:29:18Z</dcterms:modified>
  <cp:revision>33</cp:revision>
  <dc:subject/>
  <dc:title>Earthquakes</dc:title>
</cp:coreProperties>
</file>